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6EC4B3-AF14-4296-A179-D429F63959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F47B22-55F8-429B-AAC9-473EFCE5F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FCF1A2-5A37-4F7C-8B21-72307FB6AF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9686AD-316E-4140-AD58-015764A679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70BBC-E7F6-40DF-BBE6-86C7A6F4DA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04FAC-9389-4862-9237-EA7C324A0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B7173-FB05-431C-A55A-237938FDE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D274F-E0C6-4CED-BF6F-7D6304AA0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4FEBE-5463-43DB-8341-BF02656B9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58031-EDD8-4CDC-9D18-C6CCDB554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511EF-45BB-4DD6-BB1A-2E50AAB6C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6FDA1B-C4EC-4E32-8B87-F9ED273E6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96A10-611F-4964-875D-C1B55C149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C47AB-E45E-44EE-A081-B0031F5E7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DC118-B6AF-4162-ABEC-058857E2C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00C3A-1DB8-4E01-9F2B-317BDF99B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BEF99-01B1-4E41-AEAA-3DC132C2F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133D8F-D6DB-4E3B-BB3F-E54EC41AE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69D287-B255-4BDB-9A18-8C891C943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4765FE-1452-461B-B7F9-FD592F002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076B65-BDC3-4C67-B9E4-2CE3DCB91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4790AA-0633-4E26-8BBF-AF378EEA5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45FA9C-51E7-4BD6-90AE-4E0EC9E0B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D140D-1F53-4A1F-9333-90AE6C0698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C7B3-0B3C-4371-AA94-FCDBAF2888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1E8A-7ED3-42CC-92C7-01148B33E2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8CCB-FB54-4B47-A91A-16F9567788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oftware Quality Assurance</a:t>
            </a:r>
            <a:br>
              <a:rPr sz="3400"/>
            </a:br>
            <a:r>
              <a:rPr b="0" lang="en-US" sz="3400" spc="-1" strike="noStrike">
                <a:solidFill>
                  <a:srgbClr val="ffffff"/>
                </a:solidFill>
                <a:latin typeface="Arial"/>
              </a:rPr>
              <a:t>(CS-706)</a:t>
            </a:r>
            <a:endParaRPr b="0" lang="en-US" sz="3400" spc="-1" strike="noStrike">
              <a:solidFill>
                <a:srgbClr val="000000"/>
              </a:solidFill>
              <a:latin typeface="Arial"/>
            </a:endParaRPr>
          </a:p>
        </p:txBody>
      </p:sp>
      <p:sp>
        <p:nvSpPr>
          <p:cNvPr id="10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1</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F320-203A-4063-A1DC-87CFA87348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 2</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software quality characteristics can be identifi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or undesirable characteristics can also be ident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2FE9-0E49-4413-8188-9713BFF270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Definitions</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ll discuss six key factors, which are considered as definitions of software quality, and we’ll use them throughout this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076A-4894-4290-816F-343786EBB8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levels of defects when deployed, ideally approaching ze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7502-4D1B-4FFE-9AD7-4C439F7D37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reliability, or the capability of running without crashes or strange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5D76-244C-49E8-86E0-E0662D4427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ity of clients with high user-satisfaction when survey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CAB7-3EA4-41CD-810D-41D6DA3103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ucture that can minimize “bad fixes” or insertion of new defects during repai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573D-B902-4915-A04B-F89B8A1147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customer support when problems do occ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0F02-DBD3-4854-AC8C-FDF3EC8110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repairs for defects, especially for high-severity de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33BB-CCAE-4199-BA8E-7BE642E198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yond Absence of Defect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e of beau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e of fitness for purpo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e of elegance that goes beyond the simple absence of overt flaw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well-formed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u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2800-26EF-4C44-B2D8-80BE51F0E6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ftware Quality? - 1</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time to market for new produ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s market share compared to direct competito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scrap and rework” expen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acts and keeps “top-gun” personne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the risk of serious li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7C54-09FD-4022-A592-56EC738A7C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 1</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urse deals with a very important aspect of software engineering: quality assurance of software products and servic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learn different aspects of software quality assurance in this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4291-4705-450A-BCD6-4C2A98F473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ftware Quality? - 2</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the risk of serious operating failures and delay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the risk of bankruptcy or business failures, which may be attributed directly to poor quality or poor software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B106-7738-4D23-99CC-53286AF9B7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Assurance</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term software quality assurance would mean that the software guarantees high qua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ourse, we’ll learn the different processes, techniques, and activities, which enables us – the software professionals – to provide that guarantee to ourselves and our cli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F2C4-D73E-4008-B4B4-FB221BE4A2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hieving Software Quality </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or a software application to achieve high quality levels, it is necessary to begin upstream and ensure that intermediate deliverables and work products are also of high quality levels.  This means that the entire process of software development must itself be focused on quality”</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ers J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DE35-A491-4147-936B-A2285A6E83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day’s lecture, we have only discussed what quality is and what software quality i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briefly touched upon the need of software qualit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oming lectures, we will explore software quality assurance in quite a bit of detail, so get ready for a very exciting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4C43-A07C-44D1-9E6B-1DD6B83E58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Analysis and Guidelines for Success by Capers J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D109-6954-4675-9369-CA82CA3289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 2</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irst few lectures, we will discuss what software quality is and how it impacts the development of the software development and maintenance and other basic concepts in SQ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econd phase of this course, we’ll discuss in detail the activities in each phase of the software development lifecycle, as they relate to software quality assu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B9AA-32D8-4C68-9A56-89681493EB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 3</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third part of this course, we’ll discuss different topics related to software quality assurance.  We’ll look at quality assurance processes, some of the major process improvement programs from the quality assurance’ perspectiv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lso study some other topics, given our time constra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8D41-A9E1-4217-BB81-FBD9BD1588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Quality?</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define qu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be thinking, what kind of question is that.  It is very easy to define quality, but if you think really hard, it is not  that easy to define qu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come with a definition?  Let’s see what I have in store for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6254-D86D-4F7B-A615-413DB88E64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onyms of Quality</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ll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io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n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0167-9835-4A3B-924E-06F81A23E9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onym of Quality</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ior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09FD-07CE-4C6C-B5FE-56C606F7B4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ability of Quality</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claims to manufacture / develop / sell / market “good” quality products / servic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ver come across a person or company selling products or services as low or poor quality products, even when they 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F0F9-CD42-45CD-98C0-64315814A1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 1</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 it relates to all aspects of software (requirements / design / code / tests / documents / trainin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defin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quality is somewhat like the concept of beauty. Each of us has a strong opinion about what constitutes beauty, and we recognize it when we see it. But when asked to explain exactly why we regard an object as beautiful, it is hard to put the factors into word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09:03:38Z</dcterms:created>
  <dc:creator>Ghulam Ahmad Farrukh</dc:creator>
  <dc:description/>
  <dc:language>en-US</dc:language>
  <cp:lastModifiedBy>Anas</cp:lastModifiedBy>
  <dcterms:modified xsi:type="dcterms:W3CDTF">2020-04-07T11:14:52Z</dcterms:modified>
  <cp:revision>132</cp:revision>
  <dc:subject/>
  <dc:title>Software Quality Management</dc:title>
</cp:coreProperties>
</file>